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7297-5C21-4429-9DF1-D3B532841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40FB-C845-4532-BAC3-2EB1FEAC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BD56-D9C3-4D5B-A8DD-527CE9084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DD3A-C2E5-4356-AFE8-70D25A8DF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B6C9-E049-4015-8656-D588AD5C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8DE9-83B2-4282-9A48-678A603D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34CD-C33B-4AEB-B3AD-C1D66766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BC25-D5E1-4374-8B65-1AC3F3B1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15F2-BE2D-484B-9A42-52A6181B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FE29-5376-4510-8B0C-F481056A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CFB5-D498-4FDA-931D-2106449F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5692-EC3B-4890-BD9B-1A904726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0BD8-00C2-4CDF-ADAE-B0321D155F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952560" y="1000080"/>
            <a:ext cx="72388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809880" y="3505320"/>
            <a:ext cx="2057400" cy="3119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6108840" y="228600"/>
            <a:ext cx="3035160" cy="3429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3"/>
          <a:stretch/>
        </p:blipFill>
        <p:spPr>
          <a:xfrm>
            <a:off x="0" y="2286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952560" y="1000080"/>
            <a:ext cx="72388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952560" y="1000080"/>
            <a:ext cx="72388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00:39:07Z</dcterms:created>
  <dc:creator>ECU</dc:creator>
  <dc:description/>
  <dc:language>en-US</dc:language>
  <cp:lastModifiedBy>gibsonbrownr</cp:lastModifiedBy>
  <dcterms:modified xsi:type="dcterms:W3CDTF">2010-08-18T01:59:46Z</dcterms:modified>
  <cp:revision>2</cp:revision>
  <dc:subject/>
  <dc:title>Slide 1</dc:title>
</cp:coreProperties>
</file>